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10.pct" ContentType="image/x-pict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50F6-608D-471B-991A-246353BFB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5D71-0429-459B-9B51-73B530580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2AA8-BD89-4EF0-AEFB-D14DA61AC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F2DB-DF72-456E-9854-93C8E4D88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 shh mutants have some but not all characteristics of holoprosencephaly.  Oep mutants do.  Now know that Nodal is upstream regulator of Shh.  Oep is cofactor required for Nodal signaling and a target for therapeutic treatment of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A27-AA03-4BE6-9EE3-58F870E0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66C-FBE7-4FE3-AED1-331ED7A3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F0B-714A-4619-9E1D-3FAC73E8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E3E-53FC-4924-85ED-0175C933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56F-06DC-4322-9A2A-916B2782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7A6-E291-43C6-A422-0A7CFF70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998-F94E-4972-B229-2406F7B8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C31-2B0B-4ADB-9F67-EE76AD7A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17B-1091-4F09-9041-90F36065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C7E-D8B5-4708-B5F7-D5974CD1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1CF-D78E-4EEE-AE2A-51E46C36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417-BDD1-46DE-904F-1502742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D33D-25D1-4BB2-BDA3-A4E06471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Linking Anim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dels to Human Dis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0280" y="617220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936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5493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5480" y="3079800"/>
            <a:ext cx="4039560" cy="320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79800"/>
            <a:ext cx="3098880" cy="3183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7080" y="39006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908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3360" y="31687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aracter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8120"/>
            <a:ext cx="8305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or disease)  =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holo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0240" y="2476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1680" y="247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26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ep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044720"/>
          <a:ext cx="8001000" cy="588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4720"/>
                    <a:ext cx="8001000" cy="588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1397160"/>
          <a:ext cx="8382240" cy="360972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0,3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assigned human ortholo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8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m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FIN mutant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Corresponding huma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Drosophil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homologs of these 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6920" y="976320"/>
            <a:ext cx="77702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urier New"/>
                <a:ea typeface="ＭＳ Ｐゴシック"/>
              </a:rPr>
              <a:t>PATO developmen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est curation of zebrafish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nitial curation of phen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200 zebrafish mutations(Tübingen, 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orpholino phenotypes (Univ. of Minnes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400 Medaka mutations (Kyo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ffff"/>
              </a:buClr>
              <a:buFont typeface="Couri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CToL - taxonomy &amp; phyloge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BO-discuss email list for discu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54080"/>
            <a:ext cx="6324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elissa Haendel -anatomy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g Howe -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k Segerdell - 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ierra Taylor - 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295280" y="5410080"/>
            <a:ext cx="678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niversity of Oregon, Eugene, Ore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1480" y="99072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5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1-18T02:00:04Z</cp:lastPrinted>
  <dcterms:modified xsi:type="dcterms:W3CDTF">2005-11-19T00:33:27Z</dcterms:modified>
  <cp:revision>88</cp:revision>
  <dc:subject/>
  <dc:title>Ontologies for Gene Expression and Phenotypes</dc:title>
</cp:coreProperties>
</file>